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6C0-CA31-4F5E-9538-6F546865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0CE-635A-4772-88D7-4F2F495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95F-23A8-4188-A66F-48D858C2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93B-E878-4BE2-AFB1-F99D39BE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CE30-3EE2-4598-AF41-0954A137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ABAB-7E57-4FAC-917D-F1B3CDA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928E-037E-47EA-9EA7-238F5F27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D721-C225-4991-B02C-EC4D7EF4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7FB2-6AAD-4937-A73B-7DB52D37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D53-C1B5-4A9F-8F7A-2E92D3D9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A1A-3A93-40E7-A5C0-DAB383B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8DC-4F0C-4071-87D7-8CD4EF9D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5613-F39D-4F19-B003-583B8838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5AB-50DB-48C0-AE30-23CBF52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C7DF-F01B-4BD4-880C-68BED1B0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6C4C-C799-4A19-8428-0556750A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1AFE-C18A-42EE-8B21-12E99B82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A14-6CA3-422F-8F86-1A74F7AC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2E1-ADD6-4F38-B7AD-9EA5C9F6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D35-67C3-4BB5-9D62-6EC9686C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F44-1F9D-4734-9F1F-0A39D6F1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CE9-07F7-49D8-9B6F-4F48A9B8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FF2-72A4-464B-A83A-2A59743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190-A2A1-4460-BEE1-B5D68CF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AA00-77AD-42E3-AD19-82C6063E0B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8015-28F1-438C-A8B3-A354B7661D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6985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СПОРТТУРИЗМА РОСС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КО ОГО ВФСО "ДИНАМО"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ПАРТАМЕНТ ПО ФИЗИЧЕСКОЙ КУЛЬТУРЕ И СПОРТУ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АСНОДАРСКОГО КРАЯ 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российские соревнования по длинным метаниям памяти "Заслуженного работника ФК РФ" А.А. Лун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-11.02.2011 г.                                                                                         г. Ад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/к «Ю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по длинным метаниям памяти "Заслуженного работника ФК РФ" А.А. Лунева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499520" cy="3709800"/>
        </p:xfrm>
        <a:graphic>
          <a:graphicData uri="http://schemas.openxmlformats.org/drawingml/2006/table">
            <a:tbl>
              <a:tblPr/>
              <a:tblGrid>
                <a:gridCol w="3511440"/>
                <a:gridCol w="1683000"/>
                <a:gridCol w="649080"/>
                <a:gridCol w="165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Б. Мор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И. Фро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Поп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В.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Ис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С. Коробей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А. Бурм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Н. Коптю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ммм</cp:lastModifiedBy>
  <dcterms:modified xsi:type="dcterms:W3CDTF">2011-02-12T09:53:35Z</dcterms:modified>
  <cp:revision>12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